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4891-2BBA-477E-BCCF-EA9EFB261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E51D-7FBF-4407-9937-AA5EA7314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1AFA-0746-4EB5-95A3-495FC4985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4EB9-1852-4ADD-8B7C-E3794F241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B1D5-A543-4EC9-920A-5DE55ECF6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BE0E-2FA5-4639-81FA-42ECDEEDC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C1C8-DE04-43E1-B0CE-3244E8E3D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9D14-5874-481E-8FC8-F44DB719A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3F88-01FB-4852-A2D0-AF3C23B31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AEC3-D78B-488A-9B32-470A7AFE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0395-CDC2-4F43-A4EA-28F95E57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CE69-F2EA-44DA-ADC7-60E96FCB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5717D-3ED2-4372-A9EF-91579ABDCF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istmas Needs and Want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00240" y="1066680"/>
            <a:ext cx="3809880" cy="552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19080" rIns="19080" tIns="19080" bIns="19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Subtitle 2"/>
          <p:cNvSpPr/>
          <p:nvPr/>
        </p:nvSpPr>
        <p:spPr>
          <a:xfrm>
            <a:off x="533520" y="1066680"/>
            <a:ext cx="3809880" cy="5486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istmas Needs and Wa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4038480" cy="50292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Nee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648320" y="1600200"/>
            <a:ext cx="4038480" cy="5029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a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C:\Users\dwilliams2\AppData\Local\Microsoft\Windows\Temporary Internet Files\Content.IE5\0BGZMD06\MP900446391[1].jpg"/>
          <p:cNvPicPr/>
          <p:nvPr/>
        </p:nvPicPr>
        <p:blipFill>
          <a:blip r:embed="rId1"/>
          <a:stretch/>
        </p:blipFill>
        <p:spPr>
          <a:xfrm>
            <a:off x="304920" y="0"/>
            <a:ext cx="1055520" cy="1539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Users\dwilliams2\AppData\Local\Microsoft\Windows\Temporary Internet Files\Content.IE5\1O30OZU4\MP900448422[1].jpg"/>
          <p:cNvPicPr/>
          <p:nvPr/>
        </p:nvPicPr>
        <p:blipFill>
          <a:blip r:embed="rId2"/>
          <a:stretch/>
        </p:blipFill>
        <p:spPr>
          <a:xfrm>
            <a:off x="7696080" y="198360"/>
            <a:ext cx="13604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3T17:25:10Z</dcterms:created>
  <dc:creator>Deborah Williams</dc:creator>
  <dc:description/>
  <dc:language>en-US</dc:language>
  <cp:lastModifiedBy>Deborah Williams</cp:lastModifiedBy>
  <dcterms:modified xsi:type="dcterms:W3CDTF">2012-12-03T17:31:54Z</dcterms:modified>
  <cp:revision>2</cp:revision>
  <dc:subject/>
  <dc:title>Christmas Needs and Wants</dc:title>
</cp:coreProperties>
</file>